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-360" y="-9834840"/>
            <a:ext cx="360" cy="2105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A6A-0289-4E1C-B5CE-1EC07464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80D6-4D3A-47F1-8A8A-6EA7FDFF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FE0D-3C42-4512-B9AF-610AA9C6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F723-4155-4C16-9103-4AE4246B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DC98-EE71-4983-84DE-D91105C1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C68F-A259-4889-AD7A-45DC3D26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4FEC-F4C6-4069-AE07-8A58937C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63BE-0E8E-4678-ADD9-A1AA94F3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EB73-432C-44FA-9F43-5A7763C9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55600"/>
            <a:ext cx="79981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C3AA-A024-4C78-97EE-3B798D3E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101B-0DF5-4483-9A18-4448BD7A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72A-A31A-4428-BA2D-6D5BD2A9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CF4D-5BF1-4662-AE37-E74F9C91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FAA0-7828-45DC-BDAA-749075D6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57E8-E53F-40C9-AA6F-06382F31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6862-EAB7-42C6-9FDA-7D350EBB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EA43-34D4-483A-AE48-38A72DA5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842-2AD3-46C1-A7C1-130F5838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ECE5-113E-444C-A025-BB79288C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7DD-F60D-4F2A-912B-7C20C46D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55600"/>
            <a:ext cx="79981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97BB-42C0-454D-9A6E-02A3F72D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EE2-D4EE-4919-B3B4-821DE5C6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F22-F83B-4B4B-9FA9-1BB34C4E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6ECE-928F-4DF3-99CE-3A4AE0E2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1760" indent="-3938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0560" indent="-3873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0880" indent="-39852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24ACBA-BE12-4672-80B6-FDF64B04920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773B38-9438-46D0-BB16-A9CACC542CFD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1760" indent="-3938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0560" indent="-3873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0880" indent="-39852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9640" y="2708280"/>
            <a:ext cx="8136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2590920"/>
            <a:ext cx="8001000" cy="40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9966"/>
                </a:solidFill>
                <a:latin typeface="Verdana"/>
              </a:rPr>
              <a:t>Introduç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bordagens ao Planeam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vencionais: Papel químico (blueprin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Centralizada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Cima-Baixo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Produt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nâmicas: participa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Descentralizada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Baixo-Cima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Processo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Objectiv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o planeamento convencion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Clar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Explícit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equenciai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Mensurávei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o planeamento centrado nos actores e processo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Negociávei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Flexívei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Ajustáveis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Abordagem centrada no Process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ervenção interactiv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istemas de participaçã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utonomia e sustentabilidad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nâmica loc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rescimento loc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Conhecer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Experimentar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Aprender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Consolidar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nstruir Planeamento Participad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eçar por actividades que mobilizem o interesse das pesso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asear o processo na consciencialização e “empowerment”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mover a capacidade de liderança loc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corajar grupos locais a assumirem responsabilidad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envolver actividades de investigação-acç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vitar insucessos no início da acç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struir alianças entre grupos e instituições locai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Construir Planeamento Participad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envolver fortes capacidades locais na área da comunicaç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curar aliados influente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plorar o uso de instrumentos do Estad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envolver uma estratégia polític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nter o equilíbrio entre contributos endógenos e exógen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star preparado para enfrentar e responder a obstáculos e ameaç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curar apoios internacionais (Clark, 1991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Princípios do planeamen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um exercício democrátic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 actores agem numa rede de pod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á questões políticas a considera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 papel do planeador é o de catalizador, facilitad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um processo de aprendizag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 prever eventos futuros e determinar efeitos directos e indirec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Princípios do planeamen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ceitar motivações diferent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ceitar as limitaçõ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ceitar diferentes graus de compromiss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cordar regras e fronteir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vitar jarg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r honest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r transparen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r visionário mas realist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struir capacidade loc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unica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Princípios do planeamen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corajar a colaboraçã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r flexíve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onitorar o process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contrar um ritmo equilibrad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ão ter medo de avança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abalhar à escala human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volver tod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volver desde o princípi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Qualidade em 1º luga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prender com os outr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Princípios do planeamen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nter controlo loc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tilhar control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nter o momentu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lanear cuidadosamen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er em conta o contexto loc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isturar métod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cesso tão importante como produt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fissionais = apoiant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sar peritos apropriadamen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sar facilitador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Princípios do planeamen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sar talentos locai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ocumentar/regista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speitar o saber loc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rçamentar be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rma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Visualizar resultad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dar antes de corre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abalhar a partir do loc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ceitos de Plano, Programa e Proje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lassific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iclo de vida e de planeament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Ópticas d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Plano, Programa e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m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plan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deve ser entendido como o instrumento que defin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s grandes orientações estratégicas e os principais objectivos e prioridad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planeamento estratégico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 plano tem, um âmbito geral (alargado ao conjunto do país ou região e ao conjunto dos sectores), nele sendo definidas as grandes linhas orientadoras do desenvolvimento económico e soci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Plano, Programa e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grama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sectoriais constituem os instrumentos que permitem a concretização dos planos (planeamento táctico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finem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bjectivos e prioridades por ramos de actividade perfeitamente definidos e localizado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e são o instrumento directamente integrador dos projectos (nomeadamente ao definirem oportunidades e quadros de referência para es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Plano, Programa e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jectos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ão o fulcro de um qualquer programa sectori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através deles (planeamento operacional) que se concretizam as metas previstas nos programas, satisfazendo os pressupostos de desenvolvimento inseridos nos plan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6659640" y="3141720"/>
            <a:ext cx="1944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276720" y="4437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73000"/>
            <a:ext cx="8001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656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332000" y="19890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l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763640" y="2924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gr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5148360" y="2924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gr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539640" y="422100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ojec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835280" y="450864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ojec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76720" y="4797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ojec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771640" y="3357720"/>
            <a:ext cx="1800" cy="10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4572000" y="422100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ojec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6227640" y="3357720"/>
            <a:ext cx="1800" cy="9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6732720" y="3357720"/>
            <a:ext cx="934920" cy="86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5651640" y="443700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ojec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7236000" y="4365720"/>
            <a:ext cx="12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ojec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8"/>
          <p:cNvSpPr/>
          <p:nvPr/>
        </p:nvSpPr>
        <p:spPr>
          <a:xfrm flipH="1">
            <a:off x="2552400" y="2492280"/>
            <a:ext cx="1158840" cy="72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>
            <a:off x="5076720" y="2276640"/>
            <a:ext cx="71928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 flipH="1">
            <a:off x="3344760" y="2276640"/>
            <a:ext cx="79704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 flipH="1">
            <a:off x="5073480" y="3357720"/>
            <a:ext cx="509760" cy="86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>
            <a:off x="3348000" y="3429000"/>
            <a:ext cx="43200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 flipH="1">
            <a:off x="1544400" y="3357720"/>
            <a:ext cx="509400" cy="86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junto sistematizado de informação destinado a fundamentar uma decisão de investimento (Abecassis e Cabral, 198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posta para efectuar um investimento destinado a criar, ampliar e/ou desenvolver determinadas instalações e equipamentos a fim de aumentar a produção de bens e serviços numa comunidade durante um certo período de tempo (UNIDO, 199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46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4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46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-5202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idade de investimento que se pode distinguir técnica, comercial e economicamente de outros investiment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-5202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mais pequena unidade de actividade que pode ser separadamente planeada, analisada e administrativamente implementada. (Solomon, 197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52920" indent="-5202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junto de acções utilizadoras de recursos, das quais se espera obter no futuro benefícios, monetários ou não, repartidos por um dado período de tempo (Rebelo, 1987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posta de aplicação no presente de um conjunto de recursos relativamente escassos, associados a actividades com e/ou sem carácter de investimento, directa ou indirectamente produtivas, feita com a intenção de gerar no futuro um fluxo de bens e serviços cujo valor se espera ser superior aos recursos que se propõem ser utilizados (Avillez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1986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cesso específico utilizado por uma entidade pública ou privada, para atingir objectivos por cuja fixação é responsáve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globa diferentes fases tais como a determinação dos objectivos, a escolha do método (ou tecnologia) de combinação dos recursos disponíveis, a determinação das despesas e receitas associadas à efectivação de tal escolha, a escolha das fontes de recursos e o estudo do enquadramento legal e administrativo do projecto (Espada, sem dat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lassificação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ct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grícolas; industriais, serviç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ducação de adult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oio à terceira ida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atureza do investid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vad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úblic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operativos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lassificação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atureza dos investiment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ção (formação, animação, etc.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vestimentos em substituição e expansão, modernização ou inovaçã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stratég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po de acções previst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rectamente produ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directamente produtivos (não directamente produtivo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Necessidade do Planeamento para o Desenvolv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 desenvolvimento económico e social de um país envolve, inevitavelmente, o problema fundamental da utilização racional de recursos limitad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ra se atingirem os diferentes objectivos de desenvolvimento, os recursos disponíveis têm de ser adjudicados a cada um de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lassificação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mplitude dos efeitos e agentes envolvid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cidência empresarial (âmbito individual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cidência regional (âmbito colectivo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iclo de Vida ou de Planeamento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se de concepção e de formulaçã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se de execução ou realizaçã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se de exploração ou funcionament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se de extin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Análise ou Avaliação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cesso dinâmico que se desenvolve ao longo do ciclo de vida dos projectos e que se baseia na comparação entre os objectivos de natureza empresarial ou social que se propõem atingir e os efeitos esperados e alcançados com a realização dos mesm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Análise ou Avaliação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arefa contínua e ampla que começa com a identificação do projecto, continua através de todas as fases da sua formulação, implementação e mesmo após a extinção do project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Análise ou Avaliação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"...envolve a recolha sistemática de informação acerca das actividades, características e resultados dos programas, pessoal e produtos, para utilização de pessoas específicas, a fim de reduzir incertezas, melhorar resultados e tomar decisões relativamente ao que esses programas, pessoal ou produtos fazem ou afectam" Patton (1982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Fases da Análise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valiação ex-a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e, "...não só para identificar as diferentes implicações de qualquer projecto de desenvolvimento e para assegurar que as medidas adequadas de controlo venham a ser adoptadas, mas também e sobretudo, como instrumento que garanta que, na tomada de decisões, haja uma clara consciência dos vários efeitos positivos e negativos do projecto" (Vaz, 199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Fases da Análise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ervisão e contro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valiação que acompanha o período de vida útil do project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valiação ex-pos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 algn="just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é feita no final do período de vida útil do projecto, tendo importância decisiva para a reestruturação, expansão do projecto ou novas ideias de investiment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Ópticas de Análise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mpresaria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feita na perspectiva da ou das entidades directamente responsáveis, em função dos objectivos de natureza empresarial ou privada por elas visados. A análise é chamada de empresarial ou financeir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Ópticas de Análise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conómica, Social, Ambiental, ou Colectiv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é feita na perspectiva do conjunto dos agentes económicos e sociais que integram a colectividade, em função de objectivos de natureza económica (por exemplo eficiência de utilização de recursos ou substituição de importações) e social (equidade na distribuição de rendimentos, combate à pobreza, suporte a grupos específicos, protecção do ambiente, etc.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Ópticas de Análise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conómica, Social, Ambiental, ou Colectiv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avaliação de projectos segundo esta perspectiva é normalmente chamada, consoante os casos, de análise de eficiência económica, análise de equidade social, análise de impacto ambiental, etc.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Necessidade do Planeamento para o Desenvolv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 a utilização dos recursos é eficientemente planeada aumenta a capacidade de se realizarem mais e melhores objectivo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r isso, o planeamento e a avaliação do desenvolvimento tem de ser preocupação prioritária dos centros de decisão responsáve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Rendibilidade empresaria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tidão de um projecto para assegurar não só a completa recuperação dos capitais investidos, como para criar um rendimento financeiro adicional suficiente para cobrir os juros de capital (próprios e alheios) e remunerar ainda a actividade de direcção do empresário e o risco que assu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Rendibilidade nacional, social ou colectiv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tidão de um projecto para contribuir para a prossecução de objectivos nacionais bem definid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basicamente determinada pelo valor acrescentado económico e social que o projecto gera ao longo do seu período de vida út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Passos e Etapas a Considerar na Análi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lecção de projec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é o teste de eficiência absolut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iste em determinar se o projecto é ou não viável, se apresenta ou não rendibilidade que justifique a sua implementa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Passos e Etapas a Considerar na Análi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ierarquização de projectos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m situação de restrição de recursos, nem todos os projectos podem ser realizad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vém portanto compará-los nas mesmas circunstâncias e determinar os que apresentam os melhores resultados - é necessário testar a sua eficiência relati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assos e Etapas a Considerar na Anális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dições de certez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s diferentes variáveis assumem valores dentro de determinadas amplitudes; estes valores são os que, à partida, se pensa serem os mais provávei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dições de incertez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s variáveis mais significativas são identificadas assim como a sua possível gama de variação. São estimados, para cada variável, os valores mais prováveis de ocorrência e as probabilidades de ocorrênc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Efeitos directos e indirectos de um projec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Qualquer projecto apresenta sempre efeitos indirectos dificilmente medidos pelos critérios normalmente usad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 efeitos indirectos constituem também benefícios e custos adicionais, causados pelo projectos e como tal devem ser considerados juntamente com os critérios ba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ão exemplos de possíveis efeitos indirectos, muitas vezes esquecidos pelos avaliadores as implicações no ambiente, na saúde, nas qualificações, na qualidade de vida das populações e na justiça social dos projec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 desenvolvimento planificado reque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fixação e priorização de objectivos de desenvolviment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preparação e implementação de diferentes planos, programas e project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Planeamento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cesso de preparação de decisões para acção futura dirigida para alcançar determinados objectiv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strumento que permite organizar a acção para realizar os objectivos de desenvolvimento (...) de maneira a que os recursos nacionais sejam explorados racionalmente para responder às necessidades sempre crescentes das populações e de maneira a que nenhum sector da economia seja negligenciad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Conceito de Planeament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cesso que vai do acto de elaboração de um plano até à efectiva adequação dos meios aptos a realizá-lo implicando diversas fas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eterminação das orientações gerais (definição do projecto social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eterminação dos objectivos para um dado períod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ntrole da ocorrência e adopção dos objectivos intermédios segundo certas prioridade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scolha e estabelecimento dos project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perfeiçoamento e difusão do plan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justamento e programas anuai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Verdana"/>
              </a:rPr>
              <a:t>Conceito de Planeamen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cesso que engloba cinco diferentes etapas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álise dinâmica da situação presen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finição dos objectivos para o program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envolvimento do programa seguido da preparação do plano de trabalho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mplementação do programa através da execução do plano de trabalh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600280" indent="-5414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valiação do programa e suas realizações como base para planear futuros program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Dimensões do Planeam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lític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nanceira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écnic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spacial (território); local, regional, nacional e internacion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emporal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ctorial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rganizacional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atureza do plano, programa, project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Étic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los Fonseca</dc:creator>
  <dc:description/>
  <dc:language>en-US</dc:language>
  <cp:lastModifiedBy>Operador</cp:lastModifiedBy>
  <dcterms:modified xsi:type="dcterms:W3CDTF">2008-02-28T01:47:03Z</dcterms:modified>
  <cp:revision>47</cp:revision>
  <dc:subject/>
  <dc:title>Introdução às Políticas Agrárias</dc:title>
</cp:coreProperties>
</file>